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7FD9-4A17-4D91-BAC3-19AE0F6129E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6BDC-EA68-4EF6-8C7C-B19DAA83BEE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DAB0-8C07-44FA-8DAA-3E23158E8EB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C29F-4950-4F7D-A422-AC16903A7AE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CCB7-8199-414D-986A-A72672D4C50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D4CC-F4C3-448F-BEBD-3B9DEC4DEF5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0259-040E-460A-A614-CCFAAAA0D93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C04F-9A2A-4A21-A201-9346980803E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FE8E-86BC-42F0-963D-77235473FD5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2E8D-655E-4DFB-8425-451D1D0F655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6EA3-7E7F-4204-B9FA-463C6FB5F89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FA74-CC50-437E-B7E5-5B31666F04B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4E74-871C-4713-A74A-A625D10F353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EEA3-24C3-4F89-BC78-9A6E4D9F542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E810-8964-4006-829C-097B0319F45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02AA-79BB-4474-B11E-A776CFEB839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15B-B5E5-43A6-A09A-20563290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603-5C8E-463E-94D6-BBDFB482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E17-19C6-4940-B961-2A0A6978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DC5-3A76-45D1-9B1D-E2E28866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2861-6A2C-4BF6-B995-5AD0178A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C66-4AB2-40B9-B35C-7039678A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BDE8-68B9-4154-B22F-504B5DE7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3D4-1DB4-4A9F-AA3F-70B4F4A3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93E3-1163-457F-AF1A-57CA524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712F-956E-4464-9B66-81D441B6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EFA1-B000-4F9E-A73A-11B6EEF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6CB-F7FD-41A6-9E71-F383AE45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E418-734B-4047-A4B8-10984C3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E371-B7A6-4837-A125-D6C238E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0C68-276C-4E1B-9BEC-94541E1C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9ADF-0992-4B26-A61E-A86FE8C0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7D8-4C20-4C08-AF78-73C1562B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652F2-0FC0-4E23-924D-FC900F02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518C7-3767-4613-A968-C2DA98ED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4F9C5-54F2-4F25-AA8F-3CC43853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0A2DF-86B4-4C49-BC2B-99ACAF36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706F7-0540-4D6D-9C23-0FA628B7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18A-632B-41E9-84A3-9B110C22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4D3ED-F26C-4CD8-B36E-842492C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C485E-1EC3-4D46-A4F1-B507118D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C08DF-70FC-4613-AF1C-638BCA1B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BD6EF-B7D5-438F-B68F-FA258A4E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555A9-0CC5-4C18-8B69-2F5DACF3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1692A-FBC2-4A8C-AE02-45E30177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53AE9-FADB-4BEE-A820-A578023C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825A-8F8D-47F1-A665-72BD88A3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5950-576B-418A-BB7B-516CBCB3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CB1B-A998-4525-A342-ACF50857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B66-DDB6-4D43-A7EE-65299E76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88C51-CE36-450F-A370-4B0A89BA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2A8B-3305-4867-B048-66E8B9A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A98B-119A-40FF-A2B0-B770DEF3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F236-C32C-4D17-9642-5CA56C8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59FB-E66C-4063-8926-0410598F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5AD3-0702-48C4-B732-182BAF33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5D3E-4003-4E4F-8A98-B8DCC5DD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83C5-493C-4B25-9B0E-4D71A9FF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2C86-7681-456C-B153-076F0853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BA9-57B8-450B-9659-90BC0127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2F9-779E-46BA-83C5-F77AB013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DFD-1FF4-4D99-9C15-7734C59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36D-F72D-4F81-B870-E2291CB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B10-F69B-49EF-A8D0-E22E9FB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4CD-BCD9-4BC8-9CAD-0237C956DB9A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7548-2878-42A4-8284-336367DB8C29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55A-D337-4F06-9371-CC38828AC85B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28A-7A46-44C6-B463-6C7A05E385D4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특허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2856960" y="5805360"/>
            <a:ext cx="34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arconi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산돌고딕 M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블랙박스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산돌고딕 M"/>
              </a:rPr>
              <a:t>”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 개봉 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900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경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6" descr="Marconi Reading a Message"/>
          <p:cNvPicPr/>
          <p:nvPr/>
        </p:nvPicPr>
        <p:blipFill>
          <a:blip r:embed="rId2"/>
          <a:stretch/>
        </p:blipFill>
        <p:spPr>
          <a:xfrm>
            <a:off x="684360" y="1143000"/>
            <a:ext cx="777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당시 일부 과학자들은 마르코니의 무선전신이 과학 실험기구를 모아놓은 것에 불과하다고 비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마르코니의 기여가 매우 결정적인 것은 사실이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른 과학자들의 공헌도 중요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마르코니가 취득한 특허에는 다른 과학자들의 권리가 전혀 인정되는 않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마지막 숟가락을 얹은 사람이 모든 것을 독식할 권리를 얻는 것은 정당화되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발전 촉진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발전 저해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포괄적 특허는 경쟁자의 추격 저지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마르코니의 무선전신에 대한 특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1897, 1900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의 특허로 무선 사업 완전 독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재의 많은 대기업들도 비슷한 전략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취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 대상의 지나친 확대에 따른 문제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즈니스 모델 특허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알고리즘에도 특허 수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삼성전자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터넷상에서의 원격교육방법 및 장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20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무효소송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200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무효 선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미국 대법원 빌스키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캐포스 사건 판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2010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특허에 따른 독점과 의약품 접근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약품 가격에 따른 수요 변화 적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독점은 곧 독점 공급자에 의한 가격 결정 의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허는 독점을 가능케 해주는 핵심 근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실제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개발국의 에이즈 약품 접근권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대 국내 글리벡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한알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25,000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원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90-150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만원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보험적용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제조원가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000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원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강제실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청구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2002).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그러나 기각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2003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저개발국의 기술 발전 문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는 저개발국의 기술 도입 저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실 유럽의 많은 나라들도 개발 초기 단계였을 때에는 특허법 없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 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장하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저개발국에겐 특허 적용에 예외 적용 필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실제로 어느 정도 관용 적용되고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도의 글리벡 강제실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많은 저개발국들의 에이즈 약품 강제실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저개발국 정부와 제약회사 사이의 갈등 빚어지기도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그렇다면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가 없어도 기술 발전 촉진될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 외에 발명가의 노력에 대한 합리적 보상 제도가 가능한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지적재산권의 두 갈래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특허와 저작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아이디어 보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진보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신규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산업상 이용가능성 심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승인 후에 효력 발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2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저작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표현물 보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방이 아니라면 권리 발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작물 만들어진 직후 효력 발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5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까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발견은 특허 대상에서 제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소프트웨어는 특허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저작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특허의 개략적 초기 역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베네치아 공화국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474) 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품에 대한 독점적 권리를 얻기 위해서는 정부에 얘기를 해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영국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623) 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발명에만 특허 수여하기로 선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170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초부터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에 대한 상세한 글이 첨부되어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프랑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아카데미에서 심사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1791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 현대적인 특허 제도 마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가의 권리는 자연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미국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179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 특허법 도입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전 심사 강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형 제출 의무화 경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특허의 옹호 논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식 취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유용한 발명을 대중적으로 공개하여 전체 산업 발전에 기여하는 대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기술의 상세한 내용을 공개하는 출원인에게 일정기간 동안 해당 기술에 대한 독점권 인정할 필요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개발 노력에 대한 보상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허 경쟁을 통해 기술 발전 촉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공개를 통한 산업 발전 기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국도 점점 원천기술을 보유함에 따라 다른 나라로부터 로열티를 받는 특허강국이 될 수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특허 비판의 일반적 논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독점적 권리에 대한 비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지식의 공공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누적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유지에 대한 도둑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은 왜 권리가 없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유시장 경제와 모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대 효과에 대한 비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오히려 기술 발전 저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허 괴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독점으로 인한 다른 권리 침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개발국의 의약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투입과 이익의 불일치에 대한 비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상당부분 공적 기금에 의해 수행된 연구개발의 이익을 사적으로 독점하는 것은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자유시장 경제와의 모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부가 특정한 개인에게 독점적인 권리를 부여하는 것은 자유무역 원리와 모순이라는 주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제로 네덜란드는 이러한 논리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17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부터 시행되던 특허 제도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69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에 폐지한 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191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에야 재도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스위스 역시 같은 이유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907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에야 특허법 도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실 재확인 필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인슈타인은 스위스 베른에서 특허 심사관으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90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에 근무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[Patents] projected an artificial idol of the single inventor, radically denigrated the role of the intellectual commons, and blocked a path to this commons for other citizens — citizens who were all, on this account, potential inventors too. [...] Patentees were the equivalent of squatters on public land — or better, of uncouth market traders who planted their barrows in the middle of the highway and barred the way of the peopl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rian Johns,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Piracy: The Intellectual Property Wars from Gutenberg to Gate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The University of Chicago Press, 2009, p.273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마르코니의 무선전신 사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헤르츠의 전자기파 실험 장치를 발전시킨 장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004040" y="5445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Hertz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의 실험장치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887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7" descr="hertzexperi"/>
          <p:cNvPicPr/>
          <p:nvPr/>
        </p:nvPicPr>
        <p:blipFill>
          <a:blip r:embed="rId1"/>
          <a:stretch/>
        </p:blipFill>
        <p:spPr>
          <a:xfrm>
            <a:off x="684360" y="2997360"/>
            <a:ext cx="3100320" cy="2246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HERTZ_TABLE"/>
          <p:cNvPicPr/>
          <p:nvPr/>
        </p:nvPicPr>
        <p:blipFill>
          <a:blip r:embed="rId2"/>
          <a:stretch/>
        </p:blipFill>
        <p:spPr>
          <a:xfrm>
            <a:off x="3924360" y="2971800"/>
            <a:ext cx="4788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785320" y="5805360"/>
            <a:ext cx="34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arconi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와 그의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산돌고딕 M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블랙박스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산돌고딕 M"/>
              </a:rPr>
              <a:t>”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97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경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5" descr="wireless marconi young"/>
          <p:cNvPicPr/>
          <p:nvPr/>
        </p:nvPicPr>
        <p:blipFill>
          <a:blip r:embed="rId2"/>
          <a:stretch/>
        </p:blipFill>
        <p:spPr>
          <a:xfrm>
            <a:off x="900000" y="692280"/>
            <a:ext cx="73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3:27:34Z</dcterms:created>
  <dc:creator>zolaist</dc:creator>
  <dc:description/>
  <dc:language>en-US</dc:language>
  <cp:lastModifiedBy>zolaist</cp:lastModifiedBy>
  <dcterms:modified xsi:type="dcterms:W3CDTF">2010-12-02T15:50:50Z</dcterms:modified>
  <cp:revision>15</cp:revision>
  <dc:subject/>
  <dc:title>특허</dc:title>
</cp:coreProperties>
</file>